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move the slide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02B22-0C42-41A2-83A2-7C2C6AD365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10ED5-D6DF-4F6C-8CA1-2C270C802E97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2D82B-6775-4D9B-805B-046B179D0CDD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A2D5D-662E-4FF4-A089-2C06A26F571E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16B9B-3CC0-4453-B038-7F41A100DB7B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0D0D3-671B-49B5-8EE5-4B8540EAC83D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BEF4B-15D2-4DE2-8BCC-61BCB60D673C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50CB0-113A-4589-A94D-1F3DAEF28AA2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5F1AB-1CCB-4E37-9D6D-3BD6184E9203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24585-BCD3-419E-B8F0-2276F339AD29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09E07-5448-4633-B10A-61AAFB44C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E13B5-1D01-4A00-B5F0-0E5D8C877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7EC5E-B6F2-4E52-A911-74FD0BF30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D5E50-C7DE-4D5F-825D-F732DCAAC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326C1-D30A-4823-B58C-0223BFB1B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3C1B1-08D6-4971-A569-958C48748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4D2FD-EC33-4924-B43F-6F4D7F231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FF0CE-6C44-43E9-9159-2776AF63F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B9A2B-BDAE-4323-B8B0-FE8AD8D5B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3C5FF-3BB5-419C-90CF-EBFAEF2C9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306C6-711C-46B8-A212-104EDB0C7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BECA7-592A-4A2E-99A7-21BDA65B2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DF8EA-DB6F-4673-8B93-3CA71E80E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43DFC-5734-4A60-81B4-00C85F46C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46512-AC3F-459D-BB5F-1D7552596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35EBF-F924-44CA-A54F-87BAB0CEA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FB317-FC06-46D2-9A42-219EBBC59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AA74F-1E79-424C-9C79-24AD4B05A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52742-8242-4A29-8750-E80A0B185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18A45-0176-4049-844E-28870C895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68BD1-E633-4A19-9F2B-316A985EC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BCFA4-ED97-4899-88A8-E28134A23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FE5BE-9469-46E5-BBC7-29207B23E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A1E72-5770-4D79-83F5-A43742BF2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FA34D-7E69-420C-B37F-E81961BB626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3F9B8-A042-416C-8F0A-30CE0FA6F3B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4" descr=""/>
          <p:cNvPicPr/>
          <p:nvPr/>
        </p:nvPicPr>
        <p:blipFill>
          <a:blip r:embed="rId1"/>
          <a:stretch/>
        </p:blipFill>
        <p:spPr>
          <a:xfrm>
            <a:off x="-380880" y="380880"/>
            <a:ext cx="6524640" cy="43434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6" descr=""/>
          <p:cNvPicPr/>
          <p:nvPr/>
        </p:nvPicPr>
        <p:blipFill>
          <a:blip r:embed="rId2"/>
          <a:stretch/>
        </p:blipFill>
        <p:spPr>
          <a:xfrm>
            <a:off x="0" y="2743200"/>
            <a:ext cx="5105520" cy="41148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5" descr=""/>
          <p:cNvPicPr/>
          <p:nvPr/>
        </p:nvPicPr>
        <p:blipFill>
          <a:blip r:embed="rId3"/>
          <a:stretch/>
        </p:blipFill>
        <p:spPr>
          <a:xfrm>
            <a:off x="5014800" y="0"/>
            <a:ext cx="41292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-360" y="4495680"/>
            <a:ext cx="518148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Times New Roman"/>
              </a:rPr>
              <a:t>Fall leaves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371600" y="3889080"/>
            <a:ext cx="640080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Introduction Question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rite the following questions…leave some space between ea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eec94"/>
              </a:buClr>
              <a:buSzPct val="6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y do trees change color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eec94"/>
              </a:buClr>
              <a:buSzPct val="6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are three pigments found in leav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eec94"/>
              </a:buClr>
              <a:buSzPct val="6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n do we typically see the non dominant pigment and why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Fall Leave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y do trees change colors?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/c of shortening photoperiod -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ength of d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emperature or weather is seconda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are the three leaf pigment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lorophyl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rotenoids and xanthophyl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thocyani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Fall Leave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y do we typically see the other non-dominant pigments and when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lorophyll is blocking the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lorophyll breaks down in fall and is not replaced… other pigments vi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ther pigments are present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tire yea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6248520" y="4052880"/>
            <a:ext cx="289548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Tree Pigment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lorophyl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reen organic pigm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nd inside chloroplas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0" name="Picture 2" descr=""/>
          <p:cNvPicPr/>
          <p:nvPr/>
        </p:nvPicPr>
        <p:blipFill>
          <a:blip r:embed="rId1"/>
          <a:stretch/>
        </p:blipFill>
        <p:spPr>
          <a:xfrm>
            <a:off x="457200" y="3276720"/>
            <a:ext cx="2984400" cy="34002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3" descr=""/>
          <p:cNvPicPr/>
          <p:nvPr/>
        </p:nvPicPr>
        <p:blipFill>
          <a:blip r:embed="rId2"/>
          <a:stretch/>
        </p:blipFill>
        <p:spPr>
          <a:xfrm>
            <a:off x="6019920" y="1219320"/>
            <a:ext cx="2844720" cy="21430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4" descr=""/>
          <p:cNvPicPr/>
          <p:nvPr/>
        </p:nvPicPr>
        <p:blipFill>
          <a:blip r:embed="rId3"/>
          <a:stretch/>
        </p:blipFill>
        <p:spPr>
          <a:xfrm>
            <a:off x="4191120" y="3143160"/>
            <a:ext cx="495288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Tree Pigment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22860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rotenoids —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ellow, orange, and brown organic pigm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Xanthophylls – yellows    Carotenoids - oran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bsorb other wavelengths of light to assist photosynthes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umans use beta-carotene to help make vitamin A (good for visio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5" name="Picture 2" descr=""/>
          <p:cNvPicPr/>
          <p:nvPr/>
        </p:nvPicPr>
        <p:blipFill>
          <a:blip r:embed="rId1"/>
          <a:stretch/>
        </p:blipFill>
        <p:spPr>
          <a:xfrm>
            <a:off x="6172200" y="4343400"/>
            <a:ext cx="2666880" cy="23083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4" descr=""/>
          <p:cNvPicPr/>
          <p:nvPr/>
        </p:nvPicPr>
        <p:blipFill>
          <a:blip r:embed="rId2"/>
          <a:stretch/>
        </p:blipFill>
        <p:spPr>
          <a:xfrm>
            <a:off x="3048120" y="4495680"/>
            <a:ext cx="2895480" cy="21718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6" descr=""/>
          <p:cNvPicPr/>
          <p:nvPr/>
        </p:nvPicPr>
        <p:blipFill>
          <a:blip r:embed="rId3"/>
          <a:stretch/>
        </p:blipFill>
        <p:spPr>
          <a:xfrm>
            <a:off x="969840" y="4648320"/>
            <a:ext cx="1468440" cy="22096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8" descr=""/>
          <p:cNvPicPr/>
          <p:nvPr/>
        </p:nvPicPr>
        <p:blipFill>
          <a:blip r:embed="rId4"/>
          <a:stretch/>
        </p:blipFill>
        <p:spPr>
          <a:xfrm>
            <a:off x="6886440" y="0"/>
            <a:ext cx="225756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Tree Pigment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thocyani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d, purple and blue colo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t present throughout the year as other pigments (only in autum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duced as the sugar breakdown in the leaf slow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1" name="Picture 4" descr=""/>
          <p:cNvPicPr/>
          <p:nvPr/>
        </p:nvPicPr>
        <p:blipFill>
          <a:blip r:embed="rId1"/>
          <a:stretch/>
        </p:blipFill>
        <p:spPr>
          <a:xfrm>
            <a:off x="5029200" y="4162320"/>
            <a:ext cx="4114800" cy="26956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5" descr=""/>
          <p:cNvPicPr/>
          <p:nvPr/>
        </p:nvPicPr>
        <p:blipFill>
          <a:blip r:embed="rId2"/>
          <a:stretch/>
        </p:blipFill>
        <p:spPr>
          <a:xfrm>
            <a:off x="6629400" y="0"/>
            <a:ext cx="2209680" cy="166536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6" descr=""/>
          <p:cNvPicPr/>
          <p:nvPr/>
        </p:nvPicPr>
        <p:blipFill>
          <a:blip r:embed="rId3"/>
          <a:stretch/>
        </p:blipFill>
        <p:spPr>
          <a:xfrm>
            <a:off x="0" y="4243320"/>
            <a:ext cx="3352680" cy="26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4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" dur="5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0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5" dur="5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0" dur="5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Fall Leave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 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ree fall preparation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utrients and sap move into the tre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ascular tissue entering leave closes off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6" name="Picture 4" descr=""/>
          <p:cNvPicPr/>
          <p:nvPr/>
        </p:nvPicPr>
        <p:blipFill>
          <a:blip r:embed="rId1"/>
          <a:stretch/>
        </p:blipFill>
        <p:spPr>
          <a:xfrm>
            <a:off x="3200400" y="3281400"/>
            <a:ext cx="3352680" cy="35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7T01:28:34Z</dcterms:created>
  <dc:creator>David</dc:creator>
  <dc:description/>
  <dc:language>en-US</dc:language>
  <cp:lastModifiedBy>SASD</cp:lastModifiedBy>
  <dcterms:modified xsi:type="dcterms:W3CDTF">2009-10-05T18:15:40Z</dcterms:modified>
  <cp:revision>16</cp:revision>
  <dc:subject/>
  <dc:title>Slide 1</dc:title>
</cp:coreProperties>
</file>